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B8E-32E4-49F7-B950-819EA49F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6AF-0BD4-4D24-8F03-51DCA396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58A-DD82-48E6-B2A5-0638B6AB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000-02FC-41D3-A1F1-F2428B8E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203-AF32-4CB0-B856-5CC92C3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CC6-F350-4603-9B3F-9288C7F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0C0-58BB-4C21-B48B-A940E13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29E-BB83-47EE-965C-BB24590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877-AF39-461E-8238-8321C30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4B7-8F20-4095-891E-BE73BBB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0FB-1ACA-42B0-9142-307110C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95B-0CEC-4EDB-A30B-B930A85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56C-C419-42CE-8DA5-C6B3755E6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nd Industrial Revol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he Stee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1337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The Bessemer Proces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 for faster production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9240" y="251460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reat Lakes shipping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iron ore from Mid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312408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40384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he Oi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972360" y="468936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Edwin Drake drills for oil near Titusville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3640" y="5257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catter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 su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880" y="59436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xas oil boom also begins at this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00483_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por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137240" y="1143000"/>
            <a:ext cx="51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steel leads RR to lay mor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s longer than eve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2133720"/>
            <a:ext cx="64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nscontinental Railro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670760" y="289548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line from Omaha to 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5000" y="3352680"/>
            <a:ext cx="64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k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jor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er or Branch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nnect outlying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6240" y="48006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eorge Westinghous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air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97320" y="4003560"/>
            <a:ext cx="32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gauge &amp;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06288_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27432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53352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rseless Carria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66560" y="1219320"/>
            <a:ext cx="67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allows for better production of mo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mbustion engines attempted (gaso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a self propelled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00 wealthy Americans were using automob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3124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plan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441800" y="3809880"/>
            <a:ext cx="44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ternal combus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gliders into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4724280"/>
            <a:ext cx="44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rville &amp; Wilbur Wri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4840" y="5222880"/>
            <a:ext cx="433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light: Kitty Hawk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ed 12 seconds, went 12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N00686_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1951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45720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mmunic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365840" y="167652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Telegraph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&amp; dash code using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6160" y="1295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F.B. M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080" y="24382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xander Graham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33520" y="286056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657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mas Alva Edison (Menlo P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6000" y="4232160"/>
            <a:ext cx="55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1,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Bulb, Phonograph, Use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06990_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1447920" cy="1228680"/>
          </a:xfrm>
          <a:prstGeom prst="rect">
            <a:avLst/>
          </a:prstGeom>
          <a:ln w="0">
            <a:noFill/>
          </a:ln>
        </p:spPr>
      </p:pic>
      <p:pic>
        <p:nvPicPr>
          <p:cNvPr id="74" name="BD04922_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547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nalbert</cp:lastModifiedBy>
  <dcterms:modified xsi:type="dcterms:W3CDTF">2005-06-13T11:45:54Z</dcterms:modified>
  <cp:revision>8</cp:revision>
  <dc:subject/>
  <dc:title>PowerPoint Presentation</dc:title>
</cp:coreProperties>
</file>